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701C-EDBF-4D90-8A0D-72107B7DC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0185-3B81-46EA-89A7-C28A18306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B6BC-800F-430A-84FF-4F1727692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3F64-FC8B-41A2-BA66-31A39A53F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586E-2EBB-48B4-A2F3-FE9905B5C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CDD5-E8D1-4C78-9585-E871F6E2F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20BF-CE29-46E0-8565-4C98EDD6F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71E5-6784-4E79-9D72-E0173DDE2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B1AB-9AC2-4602-8DEE-B2FBA84BF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AA9B-F4EA-489A-9EF2-BBBD1E60D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33A7-5587-44BE-AE8D-76DFAA3C7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56E5-6D95-4C67-8712-F3C1B8AB0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16B29D-30C2-4C8D-9DA4-EA50C0B6C95E}" type="slidenum">
              <a:rPr b="0" lang="de-DE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440" y="419040"/>
            <a:ext cx="10078920" cy="672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-1440" y="419040"/>
            <a:ext cx="10078920" cy="672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1440" y="419040"/>
            <a:ext cx="10078920" cy="672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1440" y="419040"/>
            <a:ext cx="10078920" cy="672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1440" y="419040"/>
            <a:ext cx="10078920" cy="672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1440" y="419040"/>
            <a:ext cx="10078920" cy="6720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9T15:10:13Z</dcterms:created>
  <dc:creator>Carsten Lohrmann</dc:creator>
  <dc:description/>
  <dc:language>en-US</dc:language>
  <cp:lastModifiedBy>Carsten Lohrmann</cp:lastModifiedBy>
  <dcterms:modified xsi:type="dcterms:W3CDTF">2013-08-29T15:12:25Z</dcterms:modified>
  <cp:revision>1</cp:revision>
  <dc:subject/>
  <dc:title/>
</cp:coreProperties>
</file>