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D788-51CA-4265-9AB6-2C9C01D7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C77-D2C3-4CB1-9F3C-38907FE0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2E4-CD75-4B16-B498-5EEB593A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E06-3442-4861-8B6F-B215CB63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D83-7A97-4D9B-9D2B-5CC37247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AF4-7F41-4732-91CE-F08BF6B6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19A-A08F-44FD-B086-6DF8F608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9B7-8B5B-46DF-A735-6257E429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7B4-2117-4A5D-B913-54ACBF99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16F-0037-4FDB-BD13-221C19D1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7C8-585F-44D1-8A2B-94D7228B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C2F-1E58-48CB-8EB2-462AEDC6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67014-7311-4408-878A-81F3758F06DB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10:13Z</dcterms:created>
  <dc:creator>Carsten Lohrmann</dc:creator>
  <dc:description/>
  <dc:language>en-US</dc:language>
  <cp:lastModifiedBy>Carsten Lohrmann</cp:lastModifiedBy>
  <dcterms:modified xsi:type="dcterms:W3CDTF">2013-08-29T15:12:25Z</dcterms:modified>
  <cp:revision>1</cp:revision>
  <dc:subject/>
  <dc:title/>
</cp:coreProperties>
</file>