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26A-C1E1-4518-B02B-36BF7AC9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4B9-6AF1-4168-A967-0C623AB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80A-52F9-44B8-98DE-4404D0DB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D98-6416-4289-9707-C0F1B343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718-AE6A-4D62-A9F4-33AE4B98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FB1-B1DA-447D-8443-88556C12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1F0-B4B8-4AF3-BCC3-EEDB55E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F21-9DD6-4E36-A09F-3134C946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1E0-B814-49B6-80F7-6A38A89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D79-4CCB-444A-8944-4C67E74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DF9-F877-4BD0-A47A-ADD7F8D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1AB-8506-485C-AE16-A008679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13758-7457-43C8-8533-F4F1809037D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5:06Z</dcterms:created>
  <dc:creator>Carsten Lohrmann</dc:creator>
  <dc:description/>
  <dc:language>en-US</dc:language>
  <cp:lastModifiedBy>Carsten Lohrmann</cp:lastModifiedBy>
  <dcterms:modified xsi:type="dcterms:W3CDTF">2013-08-29T15:07:55Z</dcterms:modified>
  <cp:revision>1</cp:revision>
  <dc:subject/>
  <dc:title/>
</cp:coreProperties>
</file>