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43F-0FE2-4F99-8F5A-8884BCCD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4B9E-8EEA-46DC-BB79-107D8783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43A-757D-4B88-B544-2B358B16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131-0CA7-43AA-B7C1-18616D7B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C59-1346-47EF-9DA6-FAAA322A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6BF-BCAE-47A2-B8BD-5F18ACA6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BFA-B70B-4EB3-A1DF-A5B4D8A3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3BA-0B2D-4DF0-BFC5-A638F848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CC06-A357-46AC-B0BF-DAAD59AF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B81-3F06-40D9-B549-0D66D5F2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F76-1CB0-4876-A2A4-0AB7CA0F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0F9-ABA4-4383-9EB9-7AA061D1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0733B-13F7-4EEE-8728-943CB644B04B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440" y="419040"/>
            <a:ext cx="100789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5:05:06Z</dcterms:created>
  <dc:creator>Carsten Lohrmann</dc:creator>
  <dc:description/>
  <dc:language>en-US</dc:language>
  <cp:lastModifiedBy>Carsten Lohrmann</cp:lastModifiedBy>
  <dcterms:modified xsi:type="dcterms:W3CDTF">2013-08-29T15:07:55Z</dcterms:modified>
  <cp:revision>1</cp:revision>
  <dc:subject/>
  <dc:title/>
</cp:coreProperties>
</file>